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054-03EA-4E87-AE35-D45230D9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08C-36BF-459D-939A-93B03AF3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C13-CE77-4C63-B589-66251534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3D9-602C-421A-8C8B-94169DD7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14B4-9E73-4752-A8CE-C2C52DC8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2CAB-1070-4695-8B4A-D18E68A0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7CEA-DC20-4A58-85A8-9DDCF210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7B49-C5B4-4FB6-A50A-A01B2C0D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4D42-A0CE-478C-8E33-899E6AFA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DF29-A03C-4174-89E0-34891E4F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E4CC-A8D0-403F-B61F-DF4A7935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A55-0434-4090-9D3D-1EBE6297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B667-7CAF-43F5-900D-B25481E6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42EF-A18E-4906-9159-E6D2FC34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7BB3-F700-4360-9D9A-C814EFD0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82FC-33D1-408E-995D-391CD009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586C-481B-4155-BAEF-F03111B4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D75-5967-45F6-8561-A06E679A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5EF-2F3A-46D1-A304-71BDD4B4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584-1539-4073-A7DA-C5AC3577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2A9-6283-45CD-B694-C15D9733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E40-AD8F-44EC-BDAB-F0233D8B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6F9-6C93-4C27-BCF7-904F09C5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A1B-F661-4459-971F-0CC607FC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8B51-1725-4041-BA7D-A380F00E1B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3B09-5636-4410-8791-011024734D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седание №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овременные воспитательные  технологии как средство развития коммуникативных  качеств личности ребёнка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Основными критериями технологичности являю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омплексность, целостност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уч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онцептуальность, развивающий характер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труктурированност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иерархичность, логичность, алгоритмичность, преемственность, вариативност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цесс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управляемость, диагностичность, прогнозируемость, эффективность, оптимальность, воспроизводимост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Характерные черты технологии воспитания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есообраз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цессуаль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членение процес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ледователь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прерыв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циональность и стабиль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антированность педагогического результата на основе постоянной коррекции и обратной связ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дивидуальное мастерство педаго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ременная школа представля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жную социально-педагогическую систему —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татехнологи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дготовки подрастающих поколений к жизни, труду, дальнейшему профессиональному образованию, к включению в общественную жизнь, социальному функционированию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Воспитательные технолог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хнология коммунистического воспитания советского пери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хнология «жёсткого» коллективного воспитания А.С. Макарен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хнология коллективного творческого воспитания И.П. Иван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хнология гуманного коллективного воспитания В.А. Сухомлинск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хнология воспитания на основе системного подхода (Л.И. Новикова, В.А. Караковский, Н.Л. Селиванов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хнология воспитательной работы с коллективом класса (по Е.Н. Степанов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Шоу-технологи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обенност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ление участников на выступающих («сцену») и зрителей («зал»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ревнование на сцен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готовленный организаторами сценарий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хнология. Предметы проектирования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дания «сцене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бота с «залом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пособ оцени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ценарий для ведущего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формление помещения. Наличие группы  организаторов. Их задачи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работка или поиск сценария шоу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готовка шоу по позициям («сцена», «зал», ведущий, оцени­вани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Деловая иг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Этап подготов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работка игры. Разработка сценария. План деловой игры. Общее описание игры. Содержание инструктажа. Подготовка материального обеспеч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вод в игру. Постановка проблемы, целей. Условия, инструктаж. Регламент, правила. Распределение ролей. Формирование групп. Кон­сульт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Этап проведения. Групповая работа над заданием. Межгрупповая дискуссия. Выступления групп. Защита результатов. Правила дискуссии. Работа экспертов Этап анализа и обобщ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ывод из игры - анализ, рефлексия - оценка и самооценка ра­бот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43280" y="-316440"/>
            <a:ext cx="581184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3860280"/>
            <a:ext cx="777240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1127880"/>
            <a:ext cx="7122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Всё яснее виж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что ключ ко всему в воспитан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Там развязка всег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Это самый длинный, но верный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.К. Селевк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«Воспитательные технологии», Москва, НИИ школьных технологий, 200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.П. Капусти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«Педагогические технологии адаптивной школы», Москва, 199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.Н. Сибирцо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«Настольная книга зам. директора школы по воспитательной работе (опыт, рекомендации, документы), Ростов-на-Дону, Феникс, 200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Tahoma"/>
              </a:rPr>
              <a:t>Цели и задач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916280"/>
            <a:ext cx="7704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Изучение новых воспитательных технологий и принципов воспитательного  процесса, обучение учителя технологиям выявления  результатов воспитания, развитие педагогических инициати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Мотивация классных руководителей к применению  новых технологий воспитания, гарантирующих динамику развития воспитательного процесса  школы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71978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ущность технологического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одхода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 воспитан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781440" y="4511160"/>
            <a:ext cx="39909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уководитель методического объединения классных руководителей Печёнкина Л.Н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Воспитательный процесс подчиняется следующим общим закономерностям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воспитание детерминировано культурой общества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характер и содержание воспитания определяются общественно-историческими условиями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воспитание и обучение — два взаимопроникающих, взаимозависимых процесса с определяющей ролью воспитания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эффективность воспитания обусловлена активностью человека, включенностью его в самовоспитание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эффективность и результативность воспитания зависят от гармоничной связи всех структурных элементов, участвующих в воспитательном процессе: целей, концептуальной платформы, содержания, форм, методов и средств — от применяемой технологи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технолог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едставляет научно и /или практически обоснованную систему деятельности, применяемую человеком в целях преобразования окружающей среды, производства материальных или духовных ценносте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ПЕДАГОГИЧЕСКАЯ ТЕХНОЛОГ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стема взаимосвязанных приёмов, форм и методов организации учебно-воспитательного процесса, объединенная единой концептуальной основой, целями и задачами образования, создающая заданную совокупность условий для обучения, воспитания и развития воспитанник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В.М. Полонский. Словарь понятий и терминов по образованию и педагогике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ПЕДАГОГИЧЕСКАЯ ТЕХНОЛОГ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 -  система функционирования всех компонентов педагогического процесса, построенная на научной основе, запрограммированная во времени и пространстве и приводящая к намеченным результатам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(Г.К.Селевко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 –  систематическое и последовательное воплощение на практике заранее спроектированного учебно-воспитательного процес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(Беспалько В.П., 1989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Технологический подход позволяет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с большей определённостью предсказывать результаты и управлять педагогическими процессам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анализировать и систематизировать на научной основе имеющийся практический опыт и его использова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комплексно решать образовательные и социально-воспитательные пробл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обеспечивать благоприятные условия для развития лич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уменьшать эффект влияния неблагоприятных обстоятельств на челове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оптимально использовать имеющиеся в распоряжении ресурс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выбирать наиболее эффективные и разрабатывать новые технологии и модели для решения возникающих социально-педагогических пробл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Источники и составные части инновационных педагогических технологий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ьные преобразования и новое педагогическое мышл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ка – педагогическая, психологическая, общественные, а также технические нау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довой педагогический опы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стижения технического прогрес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ыт прошлого, отечественный и зарубеж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родная педагогика (этнопедагоги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0:38:50Z</dcterms:created>
  <dc:creator>ChiglincevaLN</dc:creator>
  <dc:description/>
  <dc:language>en-US</dc:language>
  <cp:lastModifiedBy>Печенкина Любовь Николаевна</cp:lastModifiedBy>
  <dcterms:modified xsi:type="dcterms:W3CDTF">2009-04-29T15:26:59Z</dcterms:modified>
  <cp:revision>10</cp:revision>
  <dc:subject/>
  <dc:title>Сущность технологического подхода в воспитании</dc:title>
</cp:coreProperties>
</file>